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8C2-7FFB-43A4-A1C3-43B70BBC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F2F-3471-42E3-AABB-18BC4194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22E-3235-4C85-88D6-0201744B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B49-52F0-459B-AB89-78878CA6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4C3-8F83-463A-9601-E8201024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E16-9CC5-4EF4-8087-9F3F35CF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A57-9180-4DD7-9E20-D6887026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241-04FF-4669-9931-2DAF4D7A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9BB-A16E-4448-A964-CEE35E27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8B6-83A0-4E47-B091-08382F4A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5E1-E198-46E8-8C45-197817A8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705-9E23-4730-9AA0-AEF685E8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107F-7E6F-4F92-B8BD-9CF12293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ouse Projec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Year 2006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1630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ream house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get to design it and buil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241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589120"/>
          <a:ext cx="777240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89120"/>
                    <a:ext cx="777240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2:32:56Z</dcterms:created>
  <dc:creator>Thomas Levins</dc:creator>
  <dc:description/>
  <dc:language>en-US</dc:language>
  <cp:lastModifiedBy>Thomas Levins</cp:lastModifiedBy>
  <dcterms:modified xsi:type="dcterms:W3CDTF">2007-05-18T14:12:18Z</dcterms:modified>
  <cp:revision>3</cp:revision>
  <dc:subject/>
  <dc:title>The House Project </dc:title>
</cp:coreProperties>
</file>